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D1C-BB76-4C06-AB3F-ED0BB226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254-5E9A-4AF8-8B27-0AEF2F70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9C8-377F-4EF6-86C7-2CF893D0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1E2-D08B-4596-BA76-1CA30AAD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D425-586D-45C4-B331-CF8D8FEC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53F6-EA1D-4822-ADEE-E23E5C3B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C192-2D31-4125-B9D0-7FEBEC8E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3FFF-D1C8-4BFF-8475-8A873C2D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58A2-AE8A-41B6-9587-53F899F0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BC2C-41C7-4379-B375-CD17CACD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BAD5-08F3-4E8F-B733-DB27CE5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97C-4DD5-4E2C-8765-FFEC7A82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66CA-EF6A-4DCF-8B27-161AB8F7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D81D-BE7D-40BA-8587-A71B360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E95B-B984-4D37-BCA4-C4D89A6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3895-944F-4B7B-8AED-6866FA8D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A072-2279-4F8B-A5D7-5B0C60FD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F4D-4EE4-413D-AA28-1C682384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071-9A93-4E50-9AE7-4E0B95A6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2CC-3ED8-4FB3-BFAD-AE109B71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B65-43C4-4D32-A4EF-A8A7F126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932-7A78-4F2E-83B3-80CB9B4A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ADE-C939-4F9E-B95F-7BD3AC77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9D6-A519-4CF4-9FB8-A3848D5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F468-B4EF-4569-BA66-05F2028F9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9B2C-0AC2-4FA1-AFDC-8F78646E6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MacOS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Laurie Yingling</cp:lastModifiedBy>
  <dcterms:modified xsi:type="dcterms:W3CDTF">2009-04-28T03:20:43Z</dcterms:modified>
  <cp:revision>15</cp:revision>
  <dc:subject/>
  <dc:title>Jeopardy</dc:title>
</cp:coreProperties>
</file>